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8.png" ContentType="image/png"/>
  <Override PartName="/ppt/media/image12.png" ContentType="image/png"/>
  <Override PartName="/ppt/media/image7.wmf" ContentType="image/x-wm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DF91-A195-4266-BBC0-CBD353BF9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52F0-9D09-4C71-AE70-A5E5DB5A9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9E3B-D0DF-4A1B-9471-433DA91D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51A5-6522-417F-B411-60D419EF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3B9-A621-4F31-96ED-27165EBC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32BF-7996-4934-9CA3-2E7F989C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69C6-F16D-47D9-968C-88BD8A45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31E-FBBB-4ADD-8C04-A27029B8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13D-0C1B-40F4-9C21-860817C1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8DF4-420F-4A7F-94DC-C483E771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927-0DEB-4162-9C23-3E0816B5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B634-F289-46CD-927E-3BA2C028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CDC-7830-4F62-BED3-B933DD42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7DD7-0B67-47E5-88E3-E96D4E71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5452-6122-4E16-A6EF-9E9D5F625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Central As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4724280" cy="768240"/>
            <a:chOff x="2743200" y="378000"/>
            <a:chExt cx="472428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7242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724280" cy="768240"/>
            <a:chOff x="2743200" y="378000"/>
            <a:chExt cx="472428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7242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4724280" cy="768240"/>
            <a:chOff x="2743200" y="378000"/>
            <a:chExt cx="472428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7242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09:53Z</dcterms:modified>
  <cp:revision>118</cp:revision>
  <dc:subject/>
  <dc:title>Museum of World Stuff</dc:title>
</cp:coreProperties>
</file>